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F26-8931-4EA4-A7B5-8E851A7E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A1F-E2A7-434B-8760-D8AB3E3B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E49-4D18-4A19-BBCC-7862F889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D8-C664-4649-9A19-889D2A76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75D-85A1-4F4A-9121-D73D3B91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DE9-FC0A-4B66-B403-BB25142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5B5-ACB5-4506-9961-9136380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BA8-3E76-447A-901E-C31DBAF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D40-A439-44A1-B305-C398127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9D7-9FB0-4EA7-8272-58CF512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BF9-3CE4-41C8-8A37-7A1EA88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536-793E-4FCB-B95E-56509FC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A8D-7855-4D1A-B6C4-1109C860D0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6D31-8EBB-4701-BB74-9C91C247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0.xml"/><Relationship Id="rId18" Type="http://schemas.openxmlformats.org/officeDocument/2006/relationships/slide" Target=""/><Relationship Id="rId19" Type="http://schemas.openxmlformats.org/officeDocument/2006/relationships/slide" Target="slide22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"/><Relationship Id="rId23" Type="http://schemas.openxmlformats.org/officeDocument/2006/relationships/slide" Target="slide26.xml"/><Relationship Id="rId24" Type="http://schemas.openxmlformats.org/officeDocument/2006/relationships/slide" Target=""/><Relationship Id="rId25" Type="http://schemas.openxmlformats.org/officeDocument/2006/relationships/slide" Target="slide28.xml"/><Relationship Id="rId26" Type="http://schemas.openxmlformats.org/officeDocument/2006/relationships/slide" Target=""/><Relationship Id="rId27" Type="http://schemas.openxmlformats.org/officeDocument/2006/relationships/slide" Target="slide30.xml"/><Relationship Id="rId28" Type="http://schemas.openxmlformats.org/officeDocument/2006/relationships/slide" Target=""/><Relationship Id="rId29" Type="http://schemas.openxmlformats.org/officeDocument/2006/relationships/slide" Target="slide32.xml"/><Relationship Id="rId30" Type="http://schemas.openxmlformats.org/officeDocument/2006/relationships/slide" Target=""/><Relationship Id="rId31" Type="http://schemas.openxmlformats.org/officeDocument/2006/relationships/slide" Target="slide34.xml"/><Relationship Id="rId32" Type="http://schemas.openxmlformats.org/officeDocument/2006/relationships/slide" Target=""/><Relationship Id="rId33" Type="http://schemas.openxmlformats.org/officeDocument/2006/relationships/slide" Target="slide36.xml"/><Relationship Id="rId34" Type="http://schemas.openxmlformats.org/officeDocument/2006/relationships/slide" Target=""/><Relationship Id="rId35" Type="http://schemas.openxmlformats.org/officeDocument/2006/relationships/slide" Target="slide38.xml"/><Relationship Id="rId36" Type="http://schemas.openxmlformats.org/officeDocument/2006/relationships/slide" Target=""/><Relationship Id="rId37" Type="http://schemas.openxmlformats.org/officeDocument/2006/relationships/slide" Target="slide40.xml"/><Relationship Id="rId38" Type="http://schemas.openxmlformats.org/officeDocument/2006/relationships/slide" Target=""/><Relationship Id="rId39" Type="http://schemas.openxmlformats.org/officeDocument/2006/relationships/slide" Target="slide42.xml"/><Relationship Id="rId40" Type="http://schemas.openxmlformats.org/officeDocument/2006/relationships/slide" Target=""/><Relationship Id="rId41" Type="http://schemas.openxmlformats.org/officeDocument/2006/relationships/slide" Target="slide44.xml"/><Relationship Id="rId42" Type="http://schemas.openxmlformats.org/officeDocument/2006/relationships/slide" Target=""/><Relationship Id="rId43" Type="http://schemas.openxmlformats.org/officeDocument/2006/relationships/slide" Target="slide46.xml"/><Relationship Id="rId44" Type="http://schemas.openxmlformats.org/officeDocument/2006/relationships/slide" Target=""/><Relationship Id="rId45" Type="http://schemas.openxmlformats.org/officeDocument/2006/relationships/slide" Target="slide48.xml"/><Relationship Id="rId46" Type="http://schemas.openxmlformats.org/officeDocument/2006/relationships/slide" Target=""/><Relationship Id="rId47" Type="http://schemas.openxmlformats.org/officeDocument/2006/relationships/slide" Target="slide50.xml"/><Relationship Id="rId48" Type="http://schemas.openxmlformats.org/officeDocument/2006/relationships/slide" Target="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roomtco.cosn.org/gartner_intro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ncfs.org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ba.org/site/page_micro.asp?TrackID=&amp;CID=82&amp;DID=21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6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grades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30081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Cat and Girl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4800"/>
            <a:ext cx="883908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me people’s view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some view the role of technology in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eat reason to chart the course of your district’s technology plan  by using the required 9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to 1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estimated range of replacement schedules for various districts across the state as reported by MDE personn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classroomtco.cosn.org/gartner_intro.ht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841320"/>
            <a:ext cx="8229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information related to the Total Cost of Ownership  and Case Studies to assist districts with costs and Needs Assessm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schooltechleadership.org/ptla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ASTLE URL link that provides a Principals Technology Leadership Assess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03228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8191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entified as a “last resort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2236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 donated or outdated technology equipment as opposed to new resources by a review of Technology Plans and interviews from Technology Special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5534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chnology Planning Guide for Minnesota School Districts, Charter Schools, Nonpublic Library, and Public Libra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787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k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190980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do you determine the technology needs of staff and stud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04036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34528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72736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40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nsure that all Minnesota children in grades K-12 and children from historically under served populations have access to the computer techn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-205560"/>
            <a:ext cx="624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partial Mission Statement of the Minnesota Computers for Schools organizations as found 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mncf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9864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w down on education’s most important high tech meeting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3479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eschoolnew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16208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ry.Mehsikomer@state.m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is the person I email at the Minnesota Department of Education with questions regarding Technology Pla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ducational Lea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17576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riving force behind sound technology implementation and vision within a distric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-107244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requirements for plans as found 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ducation.state.mn.us/mdeprod/groups/Library/documents/Report/003528.pd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 a leader determines technology nee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Look, Listen, &amp; Lea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formation to make us think and consider our technology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705960"/>
            <a:ext cx="62481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Did Your K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s found on Scott McCloud’s website Dangerously Irrelev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dyouknow.w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Immigrants versus Digital N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52884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students versus educators as describes in the article by Marc Pren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arcprensky.com/writing/default.as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 or Technological Div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561960"/>
            <a:ext cx="441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ap between the have and have not's in Technology accessibility, education, and material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708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ometime I wonder “What Works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850680"/>
            <a:ext cx="8839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ttp://ies.ed.gov/ncee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09656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 – Rate Communication Dis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CLB Title II Part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crosoft Cy Pres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brary Services &amp; Technology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e Funded Regional Library Telecommunications 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remarkable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ow old were you  and where were you when you first used a compu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888840"/>
            <a:ext cx="6248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bbreviation of a form of communication or an organization servicing school media and information technology profession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emowe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53208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Philosop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 South Central Regional Area Communications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1575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OCR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ttp://www.projectsocrate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rea around me I cherish or how I know about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30729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y Sp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98324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tricate network suggesting something that was formed by wea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3526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web of a spider or the World Wide We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6640"/>
            <a:ext cx="8610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possible sources of available discounts or funding after a district completes a 4 year Technology Plan and submits it to the Minnesota Department of Edu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assageway or the founder of Microso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/Who is (Bill)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Gat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-259200"/>
            <a:ext cx="769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ning &amp; Needs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sion, Goals, Objectives, &amp;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cies &amp;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chnology Infrastructure, Management, &amp;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ff Development &amp;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dget f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9177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nine required criteria in a Technology Pla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269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sba.org/site/page_micro.asp?TrackID=&amp;CID=82&amp;DID=2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5320"/>
            <a:ext cx="62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the website of the National School Board Association to assist with Technology Planning Guidance &amp; other resources for administrator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0337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Hunt</cp:lastModifiedBy>
  <dcterms:modified xsi:type="dcterms:W3CDTF">2007-05-01T02:11:45Z</dcterms:modified>
  <cp:revision>177</cp:revision>
  <dc:subject/>
  <dc:title>Blank Jeopardy</dc:title>
</cp:coreProperties>
</file>